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9EF2-5AFF-4897-AF65-7AE29F79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2293-5C6B-4EE5-B83C-9E88F9DE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18F2-121E-4711-AB8B-C1E2BE39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5B71-7ACC-404A-9206-5AAE21F30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5A12-862E-4AFD-A4DA-5F8CB3EE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35DD-E70B-4FF2-B97E-63EB4C07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34D8-BB0C-41F5-9C3D-16B9DF82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F2C9-3B1C-4A10-B7AB-C7CDD19E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2EDD-2D87-4423-8685-3F68958B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8269-4E85-40B4-BCA5-EAC2DD2A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0475-0757-4603-BDD7-DD2D910A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9288-00CE-4D8A-9355-26E7B954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3876-7ABA-48AA-ABF0-09EED6BE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E3EF-7DDB-49DF-826B-1D8C29EC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EA46-36C9-4D93-9C13-EC553F5D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3D54-AE0C-42ED-9C9C-8391D9AA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8985-166C-4383-B680-A363F708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BD68-3A73-4D52-8DA4-EADD2011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76F4-5F82-4F3C-A09F-3F930D6E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FE44-13A2-4DFC-964C-0A8D2CF3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E552-9980-479D-B789-6D723CAA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1E4D-21EB-42C7-831B-0C1D418A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B1B5-1D91-4465-911C-3E66A302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AE41-304A-4E92-886D-8943A6CF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FDBA-D47A-4D71-89DE-121319F13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B0F8-5EE7-42FF-BC72-16E236159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oogle.com/webhp?hl=en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www.mikrotik.com/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5640" y="1197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Ruteo Dinám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exiones de red redundantes por falla y balanceo de cargas de flujo de trafico usando OSPF y B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on de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042920" y="1347840"/>
            <a:ext cx="6912000" cy="55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D del Router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 del Router ID debe ser unico dentro del sistema autonomo (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 del Router ID puede ser dejado como 0.0.0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ón IP mas grande asignada al 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ado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será us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uta default de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je la ruta ‘Distribute default’ de manera ‘never’, a menos que sea esto un AS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routing os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t distribute-default=as-type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distribución de rutas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tive ‘redistribute connected routes [y static routes]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routing os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t redistribute-connected=as-type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t redistribute-static=as-type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tu usas RIP o BGP, quizás quieres redistribuir rutas aprendidas por esos protoco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umeración de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Áreas son definidas con números de 32 bits en formato de dirección 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0.0.0.0 esta reservado por el área de back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das las áreas deben estar conectadas al área  0.0.0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 baj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routing ospf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d name=internal1 area-id=0.0.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l Á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056360" cy="528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des OSPF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icione redes para especificar interfaces donde tu necesitas corriendo OSPF y e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direcciones de reddeberan incluir la direccion de la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routing ospf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d network=10.1.0.0/24 area=back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ta! Para direcciones punto a punto, la red debe tener dirección remota del enlace con mascara de 32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des OSPF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058160" cy="524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Interfase OSPF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es necesario, active costo de Interfas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routing ospf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d interface=eth4-rout8 cost=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547640" y="3284640"/>
            <a:ext cx="5977080" cy="301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Interface OSPF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cambie nada en configuración avanzada, a menos que realmente sepa usted QUE ESTA HACIEND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403280" y="2924280"/>
            <a:ext cx="626580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tocolos de ruteo dinám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outerOS de MikroTik sopor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pen Shortest Path First (OSPF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outing Information Protocol (RIP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order Gateway Protocol (BG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outerOS NO Sopor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ior Gateway Routing Protocol (IGRP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hanced Interior Gateway Routing Protocol (Enhanced IGRP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ecinos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routing ospf neighbor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estra los vecinos OSPF incluyendo este mismo rute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6408720" cy="404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ado de veci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do de vecinos (Neighbor state) muestra el estatus de la red OSP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ll: bases de datos de “estado de enlaces” estan completamente sincroniz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-Way: Comunicacion bidireccional establec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wn, Attempt, Init, Loading, ExStart, Exchange: mmm, no esta funcionando adecuadamente, lea la documentació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utas OSPF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/ip route p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O: Ruta invalida conectada añadida por OSPF muestra que OSPF esta corriendo en dicha inter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utas multiples del mismo costo tienen una direccion destino y gateways separados por ‘,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utas OSPF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453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um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nual de MikroTik Rout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cumentacion en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Go to Google Hom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3789360"/>
            <a:ext cx="2663640" cy="9763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1341360"/>
            <a:ext cx="1727280" cy="172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de configuración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ga u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ystem reset a sus equip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icione direcciones a su rutead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blica 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cal 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ure OSPF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istribuir rutas estáticas y conect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rra OSPF sobre la interfase Pu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hecando status de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tos vecinos OSPF ves? 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tos vecinos están en ‘full’ state? 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ibiste la ruta de default?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tas rutas OSPF han sido instaladas? 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parando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eque los vecinos Mikro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neighbor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eque los vecinos OSP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routing ospf neighbor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eque ru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route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eque 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log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ogs de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gs de OSPF muestran información que cambia entre los rutead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log print without-p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úrelo OFF después de que ospf esta configurado y corri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system logging fac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t OSPF-Info local=n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paldo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2890800" cy="15908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419640" y="1844640"/>
            <a:ext cx="1441440" cy="5047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teado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651640" y="1844640"/>
            <a:ext cx="1441440" cy="5047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teador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85" idx="3"/>
            <a:endCxn id="287" idx="5"/>
          </p:cNvCxnSpPr>
          <p:nvPr/>
        </p:nvCxnSpPr>
        <p:spPr>
          <a:xfrm flipH="1">
            <a:off x="4860360" y="2349000"/>
            <a:ext cx="1448280" cy="1701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8" name=""/>
          <p:cNvCxnSpPr>
            <a:stCxn id="284" idx="3"/>
            <a:endCxn id="287" idx="1"/>
          </p:cNvCxnSpPr>
          <p:nvPr/>
        </p:nvCxnSpPr>
        <p:spPr>
          <a:xfrm>
            <a:off x="4076280" y="2349000"/>
            <a:ext cx="1080" cy="1639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" name=""/>
          <p:cNvCxnSpPr>
            <a:stCxn id="285" idx="2"/>
            <a:endCxn id="284" idx="4"/>
          </p:cNvCxnSpPr>
          <p:nvPr/>
        </p:nvCxnSpPr>
        <p:spPr>
          <a:xfrm flipH="1">
            <a:off x="4733280" y="2160360"/>
            <a:ext cx="918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2627280" y="4292640"/>
            <a:ext cx="2876760" cy="17352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547640" y="1557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08360" y="4941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19640" y="3860640"/>
            <a:ext cx="1441440" cy="50508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teado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59280" y="4437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lan1 10.1.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35280" y="3429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ther1 10.0.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03640" y="37893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lan2 10.0.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84720" y="2492280"/>
            <a:ext cx="11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0.0.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11640" y="141300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0.0.3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580000" y="141300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0.0.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43280" y="24922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0.0.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r que usar ruteo dinámic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uteo dinámico puede ser usado pa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tribución automática de información de ruteo, al contrario de lo que se tiene usando ruteo estátic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cer conexiones de red redundant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lanceo de carga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ndo el ruteador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tive el ruteador para distribuir la ruta de default y redistribuir las rutas conectad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routing os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tribute-default=always-as-type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istribute-connected=as-type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ure OSPF para correr en las 2 interfaces loca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routing ospf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network 10.0.0.0/16 area=back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ndo Ruteadores B y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tive los ruteadores para redistribuir rutas conectad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routing os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istribute-connected=as-type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ure OSPF para correr en todas las interf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routing ospf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network 10.0.0.0/8 area=back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nitoreando el respal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nitoree el enlace p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ando las ips externas del ruteador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ire el enlace A-B desconectando el cable ethern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ntos segundos se requieren para que la ruta cambie a través del ruteador 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o hacer que el enlace sobre el ruteador C sea el primar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ternativas para respaldo de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e Netwatch para ejecutar scripts que hagan cambios de rut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ga bridge usando túneles de EoIP o W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gerencia: Cuando configure el Brid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tive el Spanning Tree Protocol (STP) para prevenir loop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e el argumento de costo de puerto para activar elcamino ‘preferido’ a ser us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istazo a 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Border Gateway Protocol (BGP) es un protocolo de ruteo inter-autono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uso primario de BGP’s es para intercambiar informacion de ‘reachibilidad’ con otros sistemas BG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kroTik RouterOS implementa BGP Version 4 (RFC 177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835280" y="3860640"/>
            <a:ext cx="5400720" cy="1944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65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40000" y="3500280"/>
            <a:ext cx="1584360" cy="57636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B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003640" y="3500280"/>
            <a:ext cx="1584360" cy="57636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B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11280" y="1701720"/>
            <a:ext cx="3168720" cy="1006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65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35280" y="2421000"/>
            <a:ext cx="1584360" cy="57636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e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32360" y="1700280"/>
            <a:ext cx="3168720" cy="1006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65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580000" y="2421000"/>
            <a:ext cx="1584360" cy="57636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e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15" idx="3"/>
            <a:endCxn id="312" idx="0"/>
          </p:cNvCxnSpPr>
          <p:nvPr/>
        </p:nvCxnSpPr>
        <p:spPr>
          <a:xfrm>
            <a:off x="2555640" y="2997000"/>
            <a:ext cx="648360" cy="503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19" name=""/>
          <p:cNvCxnSpPr>
            <a:stCxn id="317" idx="3"/>
            <a:endCxn id="313" idx="0"/>
          </p:cNvCxnSpPr>
          <p:nvPr/>
        </p:nvCxnSpPr>
        <p:spPr>
          <a:xfrm flipH="1">
            <a:off x="5866920" y="2997000"/>
            <a:ext cx="434160" cy="503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ecifique el numero de AS de tu ruteador BGP y habilite BG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routing b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t as=65000 enabled=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s especificar aqui cuantas rutas de este ruteador deberán ser redistribu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457200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la red 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posible especificar redes las cuales deberan ser advertised disregarding actual route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0.0.0.0/0 significa advertising la ruta de defa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500720" cy="426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l P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pecifique el Peer de BGP con el cual usted quiere intercambiar la información de rute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er1 for ASBR1, Peer2 for ASBR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GP intercambiara información de ruteo solamente si puede establecer una conexión de TCP a su pe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rto TCP 179 debe estar abierto en el fire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des añadir tantos peers como sea requer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eers 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688000" cy="500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onde usar ruteo dinam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IP y/o OSPF usado dentro de sistemas autónomos (AS) típicamente dentro de tu propia red donde tienes control total de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GP usado entre sistemas autóno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rgumentos específicos del P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ultihop ‘yes’, si el peer no esta dentro de la misma red ejemplo, si ruteo estático o dinámico es usado para conectarse a 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oute Reflect ‘yes’, si el peer pertenece a tu AS y quieres redistribuir rutas aprendidas por 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fix List In y Out para controlar la redistribucion de ru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tatus del Peer 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 de status de pe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umero de rutas recibidas es 2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do del peer es “connected”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3419640" y="1413000"/>
            <a:ext cx="5724360" cy="435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ista Prefijo (prefi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stas Prefijo son usadas por RIP y BGP para controlar anuncios de control de rutas hacia otros ruteadores y filtrar rutas recibidas des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da Lis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fijo tiene un nombre y una acción de default para la l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acción de default es usada para rut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 no cumplen ninguna regla de la l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dicionando Listas de prefij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185080" cy="488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glas de las listas de prefij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fix es prefijo de red a concor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ngitud del Prefix Length es la longitud del prefix en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spués de cambiar las reglas de lista de prefix, conexión al peer relevante deberá ser re-iniciada para que se puedan usar las nuevas reglas, por ejemplo, remover y añadir el pe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s de pref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57200" y="1773360"/>
          <a:ext cx="8229600" cy="3108240"/>
        </p:xfrm>
        <a:graphic>
          <a:graphicData uri="http://schemas.openxmlformats.org/drawingml/2006/table">
            <a:tbl>
              <a:tblPr/>
              <a:tblGrid>
                <a:gridCol w="2743200"/>
                <a:gridCol w="13716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jo (Prefi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 De Pre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 de destinos concorda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.0.0/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.0.0/0 (default dest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.0.0/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lquier dest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.0.0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-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.4.0/17;10.5.0.0/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4.0.0/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5.0.0/16;10.7.0.0/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listas de pref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uta default 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das las rutas 10. Son rechazadas, si la mascara de red es mayor que 16 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rutas 10.4-7 son aceptadas si la mascara no es mas larga que 16 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3708360" y="1557360"/>
            <a:ext cx="5435640" cy="431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guntas del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ndo usar BGP y cuando OSP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de un ruteador pertenecer a 2 diferentes areas de OSPF con ID’s de area 0.0.0.5 y 0.0.0.6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parar re recibir rutas de red 10. Desde el peer BGP, la lista de prefix de la regla IN deberá 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fix_____________, longitud de prefix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 es OSP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en Shortest Path First (OSPF) es un protocolo de “estado-del-enlace” que toma cuidado de las rutas en una estructura de red dinámica que puede emplear diferentes caminos hacia sus subre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SPF es mas eficiente y escalable que R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mbos, RIP y OSPF son usados dentro de sistemas autonomos (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uando usar OSP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redistribuir rutas e inyectar la ruta de default dentro del áre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hacer links de respaldo, si tu controlas los ruteadores a ambos lados del/los enl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95280" y="1341360"/>
            <a:ext cx="8569440" cy="4896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reas y ruteadores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4038480" cy="24638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11280" y="3789360"/>
            <a:ext cx="3582720" cy="21859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843280" y="1557360"/>
            <a:ext cx="3585960" cy="2187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140360" y="2349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79640" y="47242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72360" y="465300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3357720"/>
            <a:ext cx="1584360" cy="57600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11640" y="1413000"/>
            <a:ext cx="1584360" cy="57600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92720" y="3429000"/>
            <a:ext cx="1584360" cy="57636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26920" y="198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ipos de ruteadores OSP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ador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Internos (dentro de un ar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ador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l backbone (dentro del area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ador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 área de frontera (Area border routers) (AB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ABR se posiciona entre 2 o mas áre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 tocar el área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tonomous system boundary routers (ASB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istribuyen información de ruteo entre OSPF y otros protocolos de rut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SPF en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kroTik RouterOS implementa OSPF Version 2 (RFC 232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paquete routing debe ser insta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heca con “/system package pri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no esta instalado, sube el paquete de la misma versión del 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eado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‘routing-2.x.x.npk’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ici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l 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e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SPF usa protocolo 89 para comunicarse con sus vecinos, asegúrese que la cadena input del firewall no lo filt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4:59:14Z</dcterms:created>
  <dc:creator>Arnis</dc:creator>
  <dc:description/>
  <dc:language>en-US</dc:language>
  <cp:lastModifiedBy>Alfonso Urbina Araux</cp:lastModifiedBy>
  <dcterms:modified xsi:type="dcterms:W3CDTF">2005-06-18T01:19:23Z</dcterms:modified>
  <cp:revision>60</cp:revision>
  <dc:subject/>
  <dc:title>OSPF Configuration</dc:title>
</cp:coreProperties>
</file>